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01752"/>
        <c:axId val="33005390"/>
      </c:barChart>
      <c:catAx>
        <c:axId val="27701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5390"/>
        <c:crosses val="autoZero"/>
        <c:auto val="1"/>
        <c:lblAlgn val="ctr"/>
        <c:lblOffset val="100"/>
        <c:noMultiLvlLbl val="0"/>
      </c:catAx>
      <c:valAx>
        <c:axId val="33005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01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847-D724-492E-A5E2-5F8337A3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69B-4B00-4934-AB55-434CE302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2F8-B074-4DBB-9809-689228C6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695-07A5-43DB-92A9-2EEB49D7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FDF-CA6E-4472-B846-7FDDCB9C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104-F6EC-44E4-94F9-784AE85A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D19-3312-49B9-BF55-924C4DC2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0F7-C3D6-47BC-8411-A839C866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8F9-CADB-4223-A150-D4EECEF3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5F7-F73E-4066-97C6-EF86FCBE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DD4-6E0A-4098-96AB-3A79883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3A4-E10C-44C1-82C7-A5C76428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71497-7AA1-4C77-B4F2-22252FF090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