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77613"/>
        <c:axId val="33523724"/>
      </c:barChart>
      <c:catAx>
        <c:axId val="51677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23724"/>
        <c:crosses val="autoZero"/>
        <c:auto val="1"/>
        <c:lblAlgn val="ctr"/>
        <c:lblOffset val="100"/>
        <c:noMultiLvlLbl val="0"/>
      </c:catAx>
      <c:valAx>
        <c:axId val="33523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77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115-01EC-408F-A0D9-910CBD66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DA1-182C-4F11-AE2E-BA04547F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B68-9F12-4DAD-8A8A-209045C0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601-C966-4D23-BC7B-CAD57EF7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665-F570-4CB0-A67D-E2605733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183-BBA8-491B-A777-CE64567D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086-9B01-4207-9D2D-32D52BED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AB3-BEF4-43D8-9334-E96D5010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013-9E5E-4ADD-98EC-6C7639A2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960-A232-4ECD-84E7-E1465F85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083-EDF9-4AEC-BD33-79A44F1A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55D-93D7-403C-9F3A-7765FD70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82DFF-1254-448C-933D-B664F95AE5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