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10474"/>
        <c:axId val="80363603"/>
      </c:barChart>
      <c:catAx>
        <c:axId val="88310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3603"/>
        <c:crosses val="autoZero"/>
        <c:auto val="1"/>
        <c:lblAlgn val="ctr"/>
        <c:lblOffset val="100"/>
        <c:noMultiLvlLbl val="0"/>
      </c:catAx>
      <c:valAx>
        <c:axId val="8036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10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C18-EE19-453C-8DEA-5DE4985A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13C-F360-402B-95A7-DDDC194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0D3-CFBF-4E7A-8065-3779E00F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038-0143-476C-B77E-D53B89D9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554-95E2-4E2E-8015-AC8094D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E84-63CF-4A9D-85A2-69937DF5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C97-E395-4B6A-9F8E-7AFAC21A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99F-418E-4B7A-907A-6712956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EE9-9613-4C7B-8FB1-4450AD11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1AC-3C52-4D9A-A356-8262635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077-F8E4-4686-B344-0C8334D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FDE-586E-46F9-BFDF-434468ED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36F0F-E1FF-4B55-A76E-49A470DAB4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