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69978"/>
        <c:axId val="99646741"/>
      </c:barChart>
      <c:catAx>
        <c:axId val="88369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46741"/>
        <c:crosses val="autoZero"/>
        <c:auto val="1"/>
        <c:lblAlgn val="ctr"/>
        <c:lblOffset val="100"/>
        <c:noMultiLvlLbl val="0"/>
      </c:catAx>
      <c:valAx>
        <c:axId val="99646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69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B9A-AF0A-44DA-A27F-39F38069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7FC-46A7-4D59-A71A-2750CCC8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703-8EC3-4E24-B92A-225A464B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B2F-E24C-4EC4-90B4-09C8831F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30A-00D9-4701-AE5E-A6E109C7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223-2813-4400-88FA-9346F7CE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1C0-F952-4D5B-8956-81712036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D1E-BDA4-41C3-B072-4DB60125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E16-1D25-4B3C-9F6F-C805901D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E5B-1496-4168-9EE4-B9DDB7E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63F-4830-47DA-82CD-66A82B8E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DC4-C27E-4139-A498-04B3A63C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662C4-84A5-4F7D-B2E1-377D93B5AA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