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21051"/>
        <c:axId val="49226603"/>
      </c:barChart>
      <c:catAx>
        <c:axId val="99121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26603"/>
        <c:crosses val="autoZero"/>
        <c:auto val="1"/>
        <c:lblAlgn val="ctr"/>
        <c:lblOffset val="100"/>
        <c:noMultiLvlLbl val="0"/>
      </c:catAx>
      <c:valAx>
        <c:axId val="49226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21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4AE-671F-4685-BE83-D8D376E9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A0A-90A0-4796-B292-4DD2834C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59E-04E9-4D03-AD64-FB9C6B1C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7D4-F79F-4F79-B3E0-FA70DACB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A74-9821-4EDA-905A-0D13D7DA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F47-F240-4487-9732-0111FF9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9A5-B657-4933-8EA5-F97FCE39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CFF-D730-4974-9A58-1CB21C04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183-4643-4747-8517-B28EB4B9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588-8255-4513-8527-B040EE4A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5FC-836D-4AA0-8DE8-336988B5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ECD-9FA7-4811-A6AE-F165EAA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66758-10FD-4923-84A7-3888173CE8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