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41795"/>
        <c:axId val="68334334"/>
      </c:barChart>
      <c:catAx>
        <c:axId val="96641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34334"/>
        <c:crosses val="autoZero"/>
        <c:auto val="1"/>
        <c:lblAlgn val="ctr"/>
        <c:lblOffset val="100"/>
        <c:noMultiLvlLbl val="0"/>
      </c:catAx>
      <c:valAx>
        <c:axId val="68334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41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8C0-DEE5-4A55-8191-43D6DB2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478-4ED9-4957-A483-F50FB131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C98-E0A7-49F2-B912-86217B3E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025-E6A3-40C3-8E64-8D64A41D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08B-76BA-4D35-814F-CF4DFF1A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06D-E50E-40DC-B8DE-0960146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F65-E5DB-4AFB-A9CD-601F9A82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2ED-213E-4300-A4E7-953E5F49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8E7-3D49-418A-BC28-5EE2F7BE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594-5A90-4E8B-9734-6E42141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7DB-BFD6-47CC-B40C-2E5DE09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F80-CA0E-45F1-9930-F5272725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D2214-D762-42C9-AE9F-D47DCC8BB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