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99687"/>
        <c:axId val="24901577"/>
      </c:barChart>
      <c:catAx>
        <c:axId val="191996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01577"/>
        <c:crosses val="autoZero"/>
        <c:auto val="1"/>
        <c:lblAlgn val="ctr"/>
        <c:lblOffset val="100"/>
        <c:noMultiLvlLbl val="0"/>
      </c:catAx>
      <c:valAx>
        <c:axId val="249015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996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FEB1-D643-41BA-87C3-2160CB8C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35F2-9ED9-4620-AD43-BD33E9C6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8ED-427F-4645-B0EA-1430353A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497-3EEA-4F16-A563-8973A141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241-74AF-4C20-95A6-C1E2EF23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B0D-4298-4307-9117-603DAE03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4B1-3B98-4B4D-8591-60E22F0F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F68-2378-42B7-B7E2-66A9C963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EAF-7658-4448-9E52-26EE5FCA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9E84-0F34-4541-ABFE-CAC50DDC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3237-B5F0-4852-9C81-432060A2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ADE0-3365-4F3E-A0D1-D3EC69F5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191F5-08A4-4D82-BCD1-0DB94C02CD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