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135948"/>
        <c:axId val="47230162"/>
      </c:barChart>
      <c:catAx>
        <c:axId val="441359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30162"/>
        <c:crosses val="autoZero"/>
        <c:auto val="1"/>
        <c:lblAlgn val="ctr"/>
        <c:lblOffset val="100"/>
        <c:noMultiLvlLbl val="0"/>
      </c:catAx>
      <c:valAx>
        <c:axId val="472301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359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B73F-C1B7-4B48-A934-94489A8DC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E12E-62FA-4AFC-BEFD-F7668315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202B-884D-4790-9A69-7320B4D17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DCB1-6F7C-4306-9800-DE5264C0C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32BA-A79D-4CFE-8C50-0D149424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233F-AF96-402D-8E5F-51FEE267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C1A3-2CA6-4036-AC25-F2D49EEA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B127-A42D-4F02-9F1F-9990CA48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30A4-1226-4FF3-82E6-9CF0D603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EF63-3A9C-42B5-9AA7-B505C1CC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B761-D531-4244-B474-937E1D97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56A9-4F4F-4DAC-A19D-BE154DE2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1A948-02CF-4B7A-928A-C37544E227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